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65D-31BB-46C9-B263-4AAF142A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FDB-6E54-4E33-9493-2258E48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FA5-CAC2-4AD7-B5B2-DF265362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CFE-81FD-4901-9C4F-751417C2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539F-16B4-4C76-8E90-0A0B249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3290E-AD09-458F-9A67-1292AC1B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6507E-8164-4716-BEEC-CEF912D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1BED-078D-49CB-8DAD-9F1F259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19182-92AE-4109-8DC7-5E15DCE1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D8643-A205-4A9A-8376-A71963B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60EF5-0FD9-476F-8713-E75061D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5BF-6B8B-449D-8C1A-970F9BED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26D00-6DE1-4FE0-A300-43BC92D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EC5A4-DECF-4C1D-B23C-CBB22C0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FECF0-6799-46AB-9561-6AB6FAE2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B08C8-D180-4C98-BDB1-862FFD9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CE8B-3CE1-49D2-9FEB-37768AF5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E54-7BE2-435A-86F5-357875C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BDE-9FA9-4359-ABA8-A5C22C3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09B-A48E-41CC-807D-3412FB1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57A-A1F0-4F9D-BC82-2B0FC86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752-A940-49C5-96F3-9531EB0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CE0-2C49-4184-A30D-80BF79B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3FE-B75C-4D85-904F-2C2EFB4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4DFE-94C5-4313-BAC5-BEB0586C538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33C-D248-451F-B184-671092F8F7F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Teoría de la relevanci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(Sperber y Wilson)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El motivo por el cual los hablantes son cooperativos es que ganan un enriquecimiento de su conocimiento del mundo.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relevancia de un enunciado depende de sus efectos cognoscitiv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terminación de las implicaturas</a:t>
            </a:r>
            <a:r>
              <a:rPr b="0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fuentes de que proceden las implicaturas pue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omarse directamente en el context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perarse del conocimiento almacenado en la mem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ducirse por inferenc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¿Has estado últimamente con Juan? Yo no me relaciono con los delincu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mero el destinatario tiene que suplir el eslabón que falta (Juan es un delincuent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egundo paso será combinarlo con el supuesto comunicado, para sacar la conclusión  implicada gene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tercer paso): Yo no me relaciono con los delincuentes – Juan es un delincuente – Yo no me relaciono con Juan  - No he estado con Juan últim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or qué hay implicaturas?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que con la respuesta directa se habrían perdido una serie de supuestos que quedan sugeridos: que uno ha roto la relación con Juan, que uno desaprueba el comportamiento de J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interpretación que se logra, por lo tanto, es mucho más ric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n la teoría  de relev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n un un enunciado podemos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tinguir tr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ivel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ivel 1 : significado convencional de la or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Nivel 2: lo di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Nivel 3: lo comun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dicho es la “explicatura” del enunciado, o sea la proposición completa de lo que expresa el hab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comunicarse lo importante es ser relevante, no decir la verdad literal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omisión de parte de la información para ser relevante s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ama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ose talk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o lenguaje aproxi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Entre dos personas que se acaban de conocer]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: Y usted, ¿en qué trabaja? B: Soy ofici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En la declaración de Hacienda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: Y usted, ¿en que trabaja? B: Soy administrativo de clase B, especialista en gestión informátic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Metáf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gún Sperber y Wilson l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etáfo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n un subtipo d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ose talk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y se analizan de la misma mane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:  una mamá dice al niño “Eres un cerdito”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icatura más fuerte : es un niño sucio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icatura más débil : es adorable (usa un diminutivo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duce que muchas veces las metáforas producen mayor ganancia cognoscitiva, porque con un solo enunciado se puede derivar un significado más ampl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Un enunciado es irrelevante cuan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nueva información no permite ninguna interacción con la preced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información ya se conoc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información  es incoherente con respecto al con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La información nueva puede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mediatamente accesible, que no necesita esfuezos de desc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otalmente desconectada, que necesita mucho esfuer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ueva pero conectada con las informaciones preced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conexión produce información nue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a nueva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uede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eforzar la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nformación  ya presente en la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Debilitar o contradecir la información 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incipio de relevancia es universal y se aplica a todos los actos de comunicación intencional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relevancia no es un principio intrínseco de los enunci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rge de la relación entre enunciado y el individuo en una situación concreta: lo que es relevante para alguien en un momento dado, puede no serlo para otra persona o para el mismo individuo en otr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explicatura e implicatura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xplicatura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el contenido que se comunica explicitamente a tavés de un enunciad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implicatu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refiere al contenido que se deduce basandose en los supuestos anteri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240" y="357336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916200" y="1469520"/>
            <a:ext cx="730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terminación de las explicaturas: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primera tarea del destinatario 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codificar correctamente un enunc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se hace a través de 3 subtare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ambig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signación de ref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riquecimi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sambiguac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utiliza la  información que ofrece la sit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¿Donde está el gato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ignación de refe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sirve de la situación del entorno. Ej.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Cierra la venta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nriquecimie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la especificación de referencias va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decisión que se toma es casi automátic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rincipio que rige estos 3 procesos es el de relevancia: el destinatario elige la opción que implica menor esfuerzo y que , a la vez, es más coher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0-28T12:19:19Z</dcterms:modified>
  <cp:revision>27</cp:revision>
  <dc:subject/>
  <dc:title>Diapositiva 1</dc:title>
</cp:coreProperties>
</file>